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D1E-DDDD-4F14-810A-38C93E56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14A-989F-4E5B-8604-D27DD53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B23-7871-465F-9B95-75DE3B7C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93E-54DF-439C-A31A-99099722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4DA5-5CF8-48CB-B9B1-424744E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0C21-06FD-4455-9D77-A7F7A2A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1CE9-1A14-4ECE-80B8-FC0BF552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DA0-B2A1-4B30-B398-7A12D27E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DF4-DBF6-498C-BD89-DB07A3E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554A-AA6B-4335-A0A3-4859134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78AF-4602-445D-8C5F-C20F5ED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B16-73D9-41F4-896E-CE75727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D3E-DB86-4CE0-B03F-E7A6A69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0234-6EE2-4FFC-AA6B-2C9BFDBF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FEF-6BE6-49C3-9243-120034C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F66D-35DD-4592-B9FF-A48C1CC5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5AEC-396D-4A65-A9BF-27E53BED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EA0-141A-4F03-8325-69B697D5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C76-A85C-487C-A534-2B94779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D02-BEAA-43DD-9C42-4E1C510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958-DC19-41BB-AEBD-42CDA577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8DC-D58C-4006-81F4-A929732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E84-6030-4E75-A87D-A4AA50E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49E-9DD1-4B64-9845-793DF62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178-213B-4564-BBA5-5EF86919A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B36-7C2E-4B3D-85F3-F29D4A1DF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 Alison Keav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33720" y="2438280"/>
            <a:ext cx="5181480" cy="2976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El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med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omedor. El comedor es muy bell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coc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a cocina. La cocina es muy grande y magnífico.</a:t>
            </a: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274320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ñ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ahoma"/>
              </a:rPr>
              <a:t>ño . El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ahoma"/>
              </a:rPr>
              <a:t>ño es lujoso y fabul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77208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uarto. El cuarto es un estunpend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240048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El pat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patio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patio es bello y gran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4038480" cy="2533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jar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jarden. El jarden es muy grande y fabul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3962520" cy="2482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gara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garaje. El garaje es muy grande y moder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114800" cy="250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sa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 una sala. La sala es muy grande y estupe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3:53Z</dcterms:created>
  <dc:creator>keavenyali</dc:creator>
  <dc:description/>
  <dc:language>en-US</dc:language>
  <cp:lastModifiedBy>keavenyali</cp:lastModifiedBy>
  <dcterms:modified xsi:type="dcterms:W3CDTF">2012-10-25T17:53:52Z</dcterms:modified>
  <cp:revision>5</cp:revision>
  <dc:subject/>
  <dc:title>La casa</dc:title>
</cp:coreProperties>
</file>